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F98-48C0-4950-9521-B234CAC4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CAE-76D1-4C86-A3C9-FED419F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61A-BFB0-45B5-81CB-E1D708CA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C1B-AAF9-405B-8FED-55B1444D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866D-2DAA-433D-AD2B-D1B58A52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EBE-8797-4128-AB8A-EEC1E97F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EA8E-EF1A-468B-9E9E-EBEAD178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522B-3ACF-49CB-912E-115307A1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E24A-62D1-4798-BAB7-03BBF7FD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BFFF-8845-4DE3-BDFC-44E46C56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12E3-1BF8-4529-B525-890159D0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115-0E2B-4EE2-B7D5-3829850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0DB9-D7D9-44F1-B64A-08353504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2F81-87C9-4B25-BA75-D4F6ED4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AF1A-2CDF-47FD-AD67-3D42606E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605-3313-4CCF-9C0A-D097205B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B15F-2B18-4E77-A1B3-0171F36A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EDAE-C2A8-45C3-8D55-6CCBF5FC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401F-8093-4D5D-B126-046566D9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2DA5-328B-441F-9CA7-E3AB3D84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097B-E67C-480A-9E08-CABF1F87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D015-C69D-485D-A23D-06269FC6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A28-9CED-4303-9F7C-E79057DB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78BFA-45EA-4C9D-8561-A524B32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FBF9-FA58-4A32-BFF9-BAC96B7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0D70-419B-40CD-B408-577FF74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6BC7-0BE4-4547-8D7C-4BA35E2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92A63-9FDD-475F-B57F-4713DF1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50F6-CAD0-479E-8400-46A6D1AB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DBC08-1538-4816-BE37-84DDA16B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F9DB-52F8-4B1D-8D0B-DD79D1C0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F2E2-1673-4732-8D6B-2B26BB6D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842C-9E39-4074-AC96-690CEDC4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C7F-890E-435E-BBF1-AE1C66A5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9596-A5D5-4492-9320-3F259E83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7734-C4AF-4E83-ABE0-7C6299F7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4EBA-0ED4-4C9C-833E-D1E90488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8575-E211-4F4A-89A3-766177E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0E25-9A88-4CB1-845E-FB0E57E6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207D9-0FDE-4485-93A4-0FF28045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5E11-81E3-4CCA-9BD3-99D4C8AA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A55D-7C77-47F8-AA80-618D272C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DE9C-6990-4BAF-8143-FE011D2A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CE2D-70A6-4E6F-8A0A-BF127D7B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2C8-A3BB-4CA5-914E-4CF4DE97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949-100E-4DC2-A821-ED896AE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82F-5CA0-4E6D-BE88-489E27F6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F3F-1D67-4904-87E8-B6843D5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426F-5FF9-4F78-A808-18B5138BC05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AA98-A9CF-4DEA-BA89-BD308A8BF7C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D73-D106-4E85-B083-B174E9E2FC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5A5B-DAE2-40F0-8DEB-0FF6D3C7FE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Arial"/>
              </a:rPr>
              <a:t>Мутагени агенс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Constantia"/>
              </a:rPr>
              <a:t>•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Базни аналози</a:t>
            </a: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супституција оригиналних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5-бромурацил –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Т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2-аминопурин -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А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Азотне базе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хемикалије које мењају структуру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врше дезаминацију ба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елиминација амино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из базе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азотаста кис., етил-метансулфонат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U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ксантин (ксантин с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некада спаруј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, а у неким слу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чајевима се н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спаруј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па се репликација зауставља)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хипоксантин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везује се з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549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CS" sz="28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лкилирајући 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Constantia"/>
              </a:rPr>
              <a:t>–</a:t>
            </a:r>
            <a:r>
              <a:rPr b="0" i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ју алкил групу изм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а у молекулу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нитр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озогуаноз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метил 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л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Latn-CS" sz="2800" spc="-1" strike="noStrike">
                <a:solidFill>
                  <a:srgbClr val="ecec0c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Интеркалирајући</a:t>
            </a:r>
            <a:r>
              <a:rPr b="0" i="1" lang="sr-Latn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ђују се изм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е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а; доводе до мутација типа помака (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frameshift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диум бромид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акридин оранж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профлав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Constantia"/>
              </a:rPr>
              <a:t>Агенси који  НЕ делују директно на ДНК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репаративне механизме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молекул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протеи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Антимутаген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супстанце које умањују мутагено дејство  хемијских агена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рсте хемијских агенаса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65628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природн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афе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фил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бром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биљни алкалои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индустријск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редински хемијски мутаге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ес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сек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Винилхлори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дитиви, конзерванси, боје у прехрамбеној индустрији, емулгатори (Е123, 221-226, 250-251, 320-322, 338-341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ви (цитостатици, седативи, антибиотици, дрог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. ефекат </a:t>
            </a:r>
            <a:r>
              <a:rPr b="0" lang="sr-Latn-CS" sz="2200" spc="-1" strike="noStrike">
                <a:solidFill>
                  <a:srgbClr val="ff0066"/>
                </a:solidFill>
                <a:latin typeface="Arial"/>
                <a:ea typeface="Arial"/>
              </a:rPr>
              <a:t>Талидоми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мутагено и тератогено дејств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фекат талидоми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thalidomidecollage1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547280" y="1052280"/>
            <a:ext cx="568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ИЗИЧКИ АГЕНСИ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Не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0066"/>
                </a:solidFill>
                <a:latin typeface="Arial"/>
              </a:rPr>
              <a:t>Нејонизујуће зрачење - </a:t>
            </a:r>
            <a:r>
              <a:rPr b="1" lang="sr-Latn-CS" sz="4600" spc="-1" strike="noStrike">
                <a:solidFill>
                  <a:srgbClr val="ff0066"/>
                </a:solidFill>
                <a:latin typeface="Arial"/>
              </a:rPr>
              <a:t>UV</a:t>
            </a:r>
            <a:r>
              <a:rPr b="1" lang="sr-Latn-CS" sz="46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ла продорност кроз тки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етљивији су организми на 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м ступњу еволутивне леств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фазе 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употребљене до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 повећањем дозе расте фреквенца оштећења (постоји праг деловањ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у  димери у молекулу ДНК (најчешће Т=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о зрачење које у току интеракције са материјом кроз коју пролази може да врш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онизаци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тома и молеку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ајам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електромагнетне талас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Х-зраци и гама-зрац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корпускуларно зра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електрони, протони, позитрони, алфа-зраци и неутрон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варује кумулативни ефек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постоји пра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еј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 се објашњава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еоријом слободних радикала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и на ДНК могу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ин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Object 7"/>
          <p:cNvGraphicFramePr/>
          <p:nvPr/>
        </p:nvGraphicFramePr>
        <p:xfrm>
          <a:off x="6012000" y="3645000"/>
          <a:ext cx="256860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645000"/>
                    <a:ext cx="256860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понт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35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знати фактори који доводе до мутац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шке приликом репликациј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понтана стопа мутације по гену изно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а стопа мутације по нуклеотиду изно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681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 молекулу ДНК изази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једн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в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slika - zracenje i DNK"/>
          <p:cNvPicPr/>
          <p:nvPr/>
        </p:nvPicPr>
        <p:blipFill>
          <a:blip r:embed="rId1"/>
          <a:stretch/>
        </p:blipFill>
        <p:spPr>
          <a:xfrm>
            <a:off x="5437080" y="1773360"/>
            <a:ext cx="3706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врсте 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најосетљивији су сисари, а међу њима чов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улетална доза за човека је  4-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инсекте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бактерије 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Протозое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физиолошког ст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организ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з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умеричк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руктурн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генске мутациј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Фактори који појачавају генотоксични ефекат јонизујућег зрачења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45a9e"/>
                </a:solidFill>
                <a:latin typeface="Constantia"/>
              </a:rPr>
              <a:t>              </a:t>
            </a:r>
            <a:r>
              <a:rPr b="1" lang="en-US" sz="3600" spc="-1" strike="noStrike">
                <a:solidFill>
                  <a:srgbClr val="645a9e"/>
                </a:solidFill>
                <a:latin typeface="Constantia"/>
              </a:rPr>
              <a:t>	</a:t>
            </a:r>
            <a:r>
              <a:rPr b="1" lang="sr-CS" sz="3600" spc="-1" strike="noStrike">
                <a:solidFill>
                  <a:srgbClr val="ff0066"/>
                </a:solidFill>
                <a:latin typeface="Arial"/>
              </a:rPr>
              <a:t>кисеоник -  </a:t>
            </a:r>
            <a:r>
              <a:rPr b="1" lang="sr-Latn-CS" sz="3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sr-Latn-CS" sz="3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sr-Latn-CS" sz="3600" spc="-1" strike="noStrike" baseline="30000">
                <a:solidFill>
                  <a:srgbClr val="cc009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исеонички ефекат има улогу у формирању реактивних пероксида - слободних радика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onstantia"/>
              </a:rPr>
              <a:t>Биолошки мутагени - </a:t>
            </a:r>
            <a:r>
              <a:rPr b="1" lang="sr-CS" sz="4800" spc="-1" strike="noStrike">
                <a:solidFill>
                  <a:srgbClr val="ff0066"/>
                </a:solidFill>
                <a:latin typeface="Constantia"/>
              </a:rPr>
              <a:t>вирус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Р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осебна група РНК вируса - РНК-ДНК вируси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субцелуларни организ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пособност док су слободни у ваздуху да се размножава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опствени метабо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показују јасан афинитет према одређеним генима или деловима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Вирусна нуклеинска киселина се у ћелији домаћину умножава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зависно (лизоген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или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независно (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лога вируса у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2637000"/>
            <a:ext cx="763272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атогенез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онкогенези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 вирусни онко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роменама у генетичком материјалу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ске мутације, хромозомске аберације типа прек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600" spc="-1" strike="noStrike">
                <a:solidFill>
                  <a:srgbClr val="000000"/>
                </a:solidFill>
                <a:latin typeface="Arial"/>
                <a:ea typeface="Arial"/>
              </a:rPr>
              <a:t>вежб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  ГЕНОТОКСИЧНИХ АГЕНА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Хумани кариоти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Стандардизација хуманог карио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агенси присутни у човековој средини имају способност индуковања промена у наследном материјалу герминативних или соматских ћелија човека. Овакви агенси се означавају као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ТОКСИЧН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ГЕНС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а токсиколог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8991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задатак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текција генотоксичних агена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генетичкој токсикологији постоји систем одабирања и давања приоритета супстанцама које треба тестирати 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елекција пиоритета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Индуков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Фактори који могу проузроковати мутације с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МУТАГЕНИ АГЕНС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фактор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опа индуковане мута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 сваки 7. нуклеотид на 100 нуклеотида претрпи мутацију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учавање мутација – вештачко индуковање мутација помоћу различитих мутагених агена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54900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лекција приорит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32000" y="2276280"/>
            <a:ext cx="65167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произведене супстанц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старих супстанц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нових и старих супстанц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којима се мења нам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пшти квалитети тест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именљивост добијених резултата на чове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ет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нов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пособност детекције генотоксичног потенцијала што већег броја агенас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кватна статистичка анализа резулта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рзина извођења те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дноставност извођења теста и цена коштањ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343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литератури је познато преко 100 експерименталних процед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у Европи се од 1986. год. примењује 15 основних тестова груписаних на основу генетичког ефекта који детектуј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9640" y="2543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КОЈИМА СЕ ДЕТЕКТУ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ГЕНСКЕ МУТА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ОТКРИВАЊЕ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ЕФЕКАТА НА НИВОУ Д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57120" y="5716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и тестови подељени су на три основне гру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тес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SCE"/>
          <p:cNvPicPr/>
          <p:nvPr/>
        </p:nvPicPr>
        <p:blipFill>
          <a:blip r:embed="rId1"/>
          <a:stretch/>
        </p:blipFill>
        <p:spPr>
          <a:xfrm>
            <a:off x="54000" y="3290760"/>
            <a:ext cx="909000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тест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прате оштећењ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иво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а 5-бромдеоксиуридин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r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 се раст ћелија у култури и разликују с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тоз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4648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Slika 2"/>
          <p:cNvPicPr/>
          <p:nvPr/>
        </p:nvPicPr>
        <p:blipFill>
          <a:blip r:embed="rId1"/>
          <a:stretch/>
        </p:blipFill>
        <p:spPr>
          <a:xfrm>
            <a:off x="3276720" y="333360"/>
            <a:ext cx="43653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24588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Slika 1"/>
          <p:cNvPicPr/>
          <p:nvPr/>
        </p:nvPicPr>
        <p:blipFill>
          <a:blip r:embed="rId1"/>
          <a:stretch/>
        </p:blipFill>
        <p:spPr>
          <a:xfrm>
            <a:off x="2627280" y="33336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40384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Slika 3"/>
          <p:cNvPicPr/>
          <p:nvPr/>
        </p:nvPicPr>
        <p:blipFill>
          <a:blip r:embed="rId1"/>
          <a:stretch/>
        </p:blipFill>
        <p:spPr>
          <a:xfrm>
            <a:off x="3348000" y="105264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SC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-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на сестринских хроматида настаје као последица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митози (соматски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реципрочна размена сегмен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се налазе на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логим локусима две сестринске хромати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фазног хромозома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.   </a:t>
            </a:r>
            <a:r>
              <a:rPr b="0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оствари своје ефекте на свим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ивоима организације живе матер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тки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организ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лује на више различитих начи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канцер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алигну трансформациј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мута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утациј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ерат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промену у структури органа током ембрионалног развић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оксич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бија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биолошки неутрал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не узрокује проме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2071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UMAN SISTER CHROMATID EXCHANGES </a:t>
            </a:r>
            <a:endParaRPr b="0" lang="en-US" sz="1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6292800"/>
            <a:ext cx="914400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lymphocyte cells treated with bromodeoxyuridine (BrdU) and stained with propidium iodide.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by Portia Cortes, California State University-Stanislau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sce.gif (104999 bytes)"/>
          <p:cNvPicPr/>
          <p:nvPr/>
        </p:nvPicPr>
        <p:blipFill>
          <a:blip r:embed="rId1"/>
          <a:stretch/>
        </p:blipFill>
        <p:spPr>
          <a:xfrm>
            <a:off x="2195640" y="260280"/>
            <a:ext cx="61513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foto_SCE"/>
          <p:cNvPicPr/>
          <p:nvPr/>
        </p:nvPicPr>
        <p:blipFill>
          <a:blip r:embed="rId1"/>
          <a:stretch/>
        </p:blipFill>
        <p:spPr>
          <a:xfrm>
            <a:off x="1944720" y="457200"/>
            <a:ext cx="503244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 ТЕС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3" descr="MN sema najnovij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-360" y="857160"/>
            <a:ext cx="8381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нуклеус тест се користи за детекциј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детекциј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еуг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тогених агенас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ност теста - брзина и једноставност извођењ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нива се н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у хроматинских телашац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цитоплазми ћел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 изгледају ка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 једра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и (МН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5668920" y="3986280"/>
            <a:ext cx="3276720" cy="2809800"/>
          </a:xfrm>
          <a:prstGeom prst="rect">
            <a:avLst/>
          </a:prstGeom>
          <a:ln w="0">
            <a:noFill/>
          </a:ln>
        </p:spPr>
      </p:pic>
      <p:sp>
        <p:nvSpPr>
          <p:cNvPr id="273" name="Right Arrow 5"/>
          <p:cNvSpPr/>
          <p:nvPr/>
        </p:nvSpPr>
        <p:spPr>
          <a:xfrm>
            <a:off x="4419720" y="4572000"/>
            <a:ext cx="83808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642600"/>
            <a:ext cx="88390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  <a:ea typeface="Arial"/>
              </a:rPr>
              <a:t>еханизам настанка микронуклеус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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функција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ер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об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971640" y="1197000"/>
            <a:ext cx="3240000" cy="25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4429080" y="1285920"/>
            <a:ext cx="4011480" cy="235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214880" y="4076640"/>
            <a:ext cx="4929120" cy="25146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179280" y="378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 тест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ктују с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прекиди на хромозом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оштећење хромозома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центромерном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е ћелија за анализу микронуклеус тестом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2143080"/>
            <a:ext cx="89917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исарски материјал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на срж миша - полихроматски еритр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0.31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5" descr="Micronuclei in mouse polychromatic erythrocytes "/>
          <p:cNvPicPr/>
          <p:nvPr/>
        </p:nvPicPr>
        <p:blipFill>
          <a:blip r:embed="rId1"/>
          <a:stretch/>
        </p:blipFill>
        <p:spPr>
          <a:xfrm>
            <a:off x="5219640" y="3573360"/>
            <a:ext cx="3621240" cy="2971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52280" y="57150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 Micronuclei in mouse polychromatic erythrocytes (arrow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9280" y="1071720"/>
            <a:ext cx="8964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Хумани материјал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крв човека 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кинезис блок микронуклеус тест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BM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тура лимфоцита периферне крви 7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/32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 почетка култивације културама се дода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халазин 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супастанца која блокира цитокинезу, па добијамо ћелије бинуклаерног изглед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-12 МН/1000 БН ћел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D:\DOKTORAT RADNA VERZIJA\Slike iz UVODA  za radnu doktorsku disertaciju\BN celije bez MN copy.jpg"/>
          <p:cNvPicPr/>
          <p:nvPr/>
        </p:nvPicPr>
        <p:blipFill>
          <a:blip r:embed="rId1"/>
          <a:stretch/>
        </p:blipFill>
        <p:spPr>
          <a:xfrm>
            <a:off x="0" y="152280"/>
            <a:ext cx="5340240" cy="3300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без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МН 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с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D:\DOKTORAT RADNA VERZIJA\Slike iz UVODA  za radnu doktorsku disertaciju\Slika BN sa MN.jpg"/>
          <p:cNvPicPr/>
          <p:nvPr/>
        </p:nvPicPr>
        <p:blipFill>
          <a:blip r:embed="rId2"/>
          <a:stretch/>
        </p:blipFill>
        <p:spPr>
          <a:xfrm>
            <a:off x="3733920" y="3581280"/>
            <a:ext cx="5410080" cy="3116520"/>
          </a:xfrm>
          <a:prstGeom prst="rect">
            <a:avLst/>
          </a:prstGeom>
          <a:ln w="0">
            <a:noFill/>
          </a:ln>
        </p:spPr>
      </p:pic>
      <p:sp>
        <p:nvSpPr>
          <p:cNvPr id="287" name="Curved Left Arrow 5"/>
          <p:cNvSpPr/>
          <p:nvPr/>
        </p:nvSpPr>
        <p:spPr>
          <a:xfrm>
            <a:off x="7086600" y="1371600"/>
            <a:ext cx="914400" cy="10666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0720 h 1066680"/>
              <a:gd name="textAreaBottom" fmla="*/ 7714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3163700"/>
                <a:lnTo>
                  <a:pt x="5400" y="21367"/>
                </a:lnTo>
                <a:lnTo>
                  <a:pt x="0" y="16972"/>
                </a:lnTo>
                <a:lnTo>
                  <a:pt x="5400" y="12110"/>
                </a:lnTo>
                <a:lnTo>
                  <a:pt x="5400" y="14424"/>
                </a:lnTo>
                <a:arcTo wR="21600" hR="7329" stAng="3163700" swAng="-2777103"/>
                <a:lnTo>
                  <a:pt x="20494" y="9643"/>
                </a:lnTo>
                <a:arcTo wR="21600" hR="7329" stAng="-386597" swAng="-5013403"/>
                <a:close/>
              </a:path>
              <a:path fill="darkenLess"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-386597"/>
                <a:lnTo>
                  <a:pt x="20494" y="9643"/>
                </a:lnTo>
                <a:arcTo wR="21600" hR="7329" stAng="-386597" swAng="-5013403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Right Arrow 6"/>
          <p:cNvSpPr/>
          <p:nvPr/>
        </p:nvSpPr>
        <p:spPr>
          <a:xfrm>
            <a:off x="1143000" y="4724280"/>
            <a:ext cx="1676520" cy="12956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202320 h 1295640"/>
              <a:gd name="textAreaBottom" fmla="*/ 9313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467116"/>
                <a:lnTo>
                  <a:pt x="17427" y="21473"/>
                </a:lnTo>
                <a:lnTo>
                  <a:pt x="21600" y="16200"/>
                </a:lnTo>
                <a:lnTo>
                  <a:pt x="17427" y="10673"/>
                </a:lnTo>
                <a:lnTo>
                  <a:pt x="17427" y="13373"/>
                </a:lnTo>
                <a:arcTo wR="21600" hR="6750" stAng="7332884" swAng="300113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55044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400" spc="-1" strike="noStrike">
                <a:solidFill>
                  <a:srgbClr val="000000"/>
                </a:solidFill>
                <a:latin typeface="Arial"/>
                <a:ea typeface="Gulim"/>
              </a:rPr>
              <a:t>3. 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04920" y="2819520"/>
            <a:ext cx="8838720" cy="3361680"/>
            <a:chOff x="304920" y="2819520"/>
            <a:chExt cx="8838720" cy="3361680"/>
          </a:xfrm>
        </p:grpSpPr>
        <p:graphicFrame>
          <p:nvGraphicFramePr>
            <p:cNvPr id="291" name="Object 4"/>
            <p:cNvGraphicFramePr/>
            <p:nvPr/>
          </p:nvGraphicFramePr>
          <p:xfrm>
            <a:off x="304920" y="2820960"/>
            <a:ext cx="2866320" cy="336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820960"/>
                      <a:ext cx="2866320" cy="33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5"/>
            <p:cNvGraphicFramePr/>
            <p:nvPr/>
          </p:nvGraphicFramePr>
          <p:xfrm>
            <a:off x="3397320" y="2819520"/>
            <a:ext cx="2894760" cy="333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97320" y="2819520"/>
                      <a:ext cx="2894760" cy="33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6"/>
            <p:cNvGraphicFramePr/>
            <p:nvPr/>
          </p:nvGraphicFramePr>
          <p:xfrm>
            <a:off x="6468840" y="2832840"/>
            <a:ext cx="2674800" cy="332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68840" y="2832840"/>
                      <a:ext cx="2674800" cy="332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1920" y="171468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м се детектују хромозомске аберациј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врсте тестова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tro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у култури ћелиј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v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ајчешћ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 ћелиј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ји се користи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за тестирање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ЛИМФОЦИТИ ПЕРИФЕРНЕ КРВ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због једноставности добијања узор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Ћелијске линије, нпр.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CHO линиј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ћелије из оваријума кинеског хрчка) има 22 хромозома и ћелијски циклус траје 1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142920" y="35712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зрокују мут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6920" y="1988640"/>
            <a:ext cx="8066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Хемиј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Физички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генси – зрач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температура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Биолош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 – виру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71640" y="1491840"/>
            <a:ext cx="75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РЕЗУЛТАТ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ТЕСТ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 добијеним препаратима анализирају 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АБЕРАЦ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у то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атидни прекид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, а ређе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а прегледати око 30 хромозомских гарни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ка обрада резул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емијски агенс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412640"/>
            <a:ext cx="83311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1949. познато је да хемијске супстанце могу изазвати промене у генетичком материјал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исно од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фазе ћелијског цикл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зроку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атид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2 и S фази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1 фази) 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оштећења пропорционална је употребљеној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Arial"/>
              </a:rPr>
              <a:t>до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оза је количина супстанце која реагује са молекулом 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и су у индукцији пром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д одређеног по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одређеној фази ћ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ј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да доведу до мутација у било ком делу генома, тј. у било ком ге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</a:t>
            </a:r>
            <a:r>
              <a:rPr b="0" lang="sr-Latn-CS" sz="4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560" y="1341360"/>
            <a:ext cx="8893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1. 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ХРОМОЗОМСКЕ АБЕР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умерич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липлоидиј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неуплоид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 Структур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берације типа преки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хроматидних и хромозом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хроматске ле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нвер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рстенасти хромозом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дицентрични хромозо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 ГЕНСКЕ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64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акција хемијских агенаса са молекулом ДНК може бит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н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захтевају метаболичку активаци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1-08-26T09:17:26Z</dcterms:modified>
  <cp:revision>235</cp:revision>
  <dc:subject/>
  <dc:title>MUTACIJE GENA</dc:title>
</cp:coreProperties>
</file>